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C33A-912B-4709-A3B3-2107338E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758-9EE8-4CA3-8D01-60FC9E61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97D-966E-42B5-A9B2-5F47DF21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6E9-93A3-4C71-BC1A-CD772020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2D2-03B1-4E89-BB71-730CC586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027-E443-48CD-AE55-B1E03BD1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860-79E6-4030-AC39-B515593A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151-12E4-46BC-9BF1-4BA295AE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62B-6565-46C6-AAD6-53C3C03D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4F2-CDFD-48F3-8A75-3CF1578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6C7-345F-41E2-A793-CF7A63AA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73F-4812-45B0-9235-B6CEDD70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5EEC-ACDA-4E08-975D-44240E14BB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jec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ustainable intensific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Research –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3716280"/>
            <a:ext cx="727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Focused scale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ow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: household members/plot/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/landscape/water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900000" y="1844640"/>
            <a:ext cx="672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ecision uni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al resources/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stainable inten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755640" y="198900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lot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ut farm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iophysical &amp; socio-economic 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river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included but </a:t>
            </a: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iversity of households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= typ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the poorest of the poor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(no means to test technolog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755640" y="1989000"/>
            <a:ext cx="74167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 on development 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mprove/combine current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ink: development, research &amp;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t a value chain project, </a:t>
            </a: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but awar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ore integration with National &amp; Regional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Participatory selection of basket of opportun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Farmers/communities decide which one(s) to implement (</a:t>
            </a:r>
            <a:r>
              <a:rPr b="0" i="1" lang="en-GB" sz="3000" spc="-1" strike="noStrike">
                <a:solidFill>
                  <a:srgbClr val="898989"/>
                </a:solidFill>
                <a:latin typeface="Calibri"/>
              </a:rPr>
              <a:t>understanding decision-making, co-learning</a:t>
            </a: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Assessment at farm, but also down/up scales. Qualitative &amp; quantitative (difficult) analyses = process &amp; social research (M&amp;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Note: Time demand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463680" y="1962000"/>
            <a:ext cx="8280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ilot studies/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link with on-going project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, but design pha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-designing &amp; co-learning with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Funding Institutions role on leverage this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view of coming initiatives/project (site sel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isk of quick wins – no sustainable unless linked to strong current proces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43:47Z</dcterms:created>
  <dc:creator>dvalbuena</dc:creator>
  <dc:description/>
  <dc:language>en-US</dc:language>
  <cp:lastModifiedBy>PBallantyne</cp:lastModifiedBy>
  <dcterms:modified xsi:type="dcterms:W3CDTF">2012-02-02T06:04:42Z</dcterms:modified>
  <cp:revision>10</cp:revision>
  <dc:subject/>
  <dc:title>Project boundaries</dc:title>
</cp:coreProperties>
</file>